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61C-2B51-4F19-A0E3-D0D7F395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2FB-3FD3-445D-BEFD-70B54BA3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233-60B9-4C78-95C9-4EA62DEF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E28-7238-4662-AA96-CF794915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A14-2567-430F-971E-0F97764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BBC-768D-437D-AF64-8D6B6CC6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E70-CF8D-443D-B137-47AA133E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768-89F0-420A-B548-E91CB9F9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50D-5C56-4291-AE98-1D1A9B5C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55E-2795-4EFB-86D0-110F8DA6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156-3B6C-4A27-8F69-188E5F1C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E86-A2BA-47F6-A894-6C033A5F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FC0C-DCEA-49CD-9939-EAA071C7C2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UF 11 – poglądowa mapa „Blue Zon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lue zone” – oznaczona kolorem niebie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C:\Users\wojciech_porczyk\Desktop\PRZETARGI\LOGISTYKA\SOPZ - konspekt\ZALACZNIKI\Do SOPZ\mapy\Mapa Strefa Blue Zone WUF 11_punkt kontrolny.png"/>
          <p:cNvPicPr/>
          <p:nvPr/>
        </p:nvPicPr>
        <p:blipFill>
          <a:blip r:embed="rId1"/>
          <a:stretch/>
        </p:blipFill>
        <p:spPr>
          <a:xfrm>
            <a:off x="1042920" y="1089000"/>
            <a:ext cx="746604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9T14:37:43Z</dcterms:created>
  <dc:creator>Pniak Janusz</dc:creator>
  <dc:description/>
  <dc:language>en-US</dc:language>
  <cp:lastModifiedBy>Wojciech Porczyk</cp:lastModifiedBy>
  <dcterms:modified xsi:type="dcterms:W3CDTF">2021-07-13T14:39:44Z</dcterms:modified>
  <cp:revision>17</cp:revision>
  <dc:subject/>
  <dc:title>Internet Governance Forum 20202</dc:title>
</cp:coreProperties>
</file>